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6F79-AFAE-4BAD-9400-6780B197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3574-0A23-4661-AF84-87EEBF3B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9688-1844-41E9-BEDD-A48423F75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F40A-75E0-47A4-A8CB-CB68A1656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B14F-6D2E-448E-BE2F-B88BF581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99CE-DED6-4F46-AE45-3B2951F9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891D-CC9C-48B3-8DA8-7F6AB50B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8ACC-7E0B-4865-977A-FC972B57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B2D0-1B00-4885-9A5A-DFC74F16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9EF9-5BF0-4678-B967-53BE3D56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27C4-CFEE-4963-9A86-EC80A4B6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CD8E-2AF8-4C39-A781-81CDB314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5C28-6FCD-4923-8F1E-901CC0BFC9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676520"/>
            <a:ext cx="517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风  筝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66680" y="106668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童年的时候，我们这些孩子，最大的快乐就是做风筝，放风筝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425600" y="1989000"/>
            <a:ext cx="6278400" cy="1922760"/>
            <a:chOff x="1425600" y="1989000"/>
            <a:chExt cx="6278400" cy="1922760"/>
          </a:xfrm>
        </p:grpSpPr>
        <p:sp>
          <p:nvSpPr>
            <p:cNvPr id="85" name=""/>
            <p:cNvSpPr/>
            <p:nvPr/>
          </p:nvSpPr>
          <p:spPr>
            <a:xfrm>
              <a:off x="1425600" y="2903400"/>
              <a:ext cx="1095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快乐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151680" y="1989000"/>
              <a:ext cx="1552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最大的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11430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芦塘里拔几根细苇，再找来几张纸，我们便做起风筝来。做一个蝴蝶样的吧。我们精心做着，心中充满了憧憬和希望。风筝做好了，却什么也不像了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依然快活，把它叫做“幸福鸟”，还把我们的名字写在上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1430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芦塘里拔几根细苇，再找来几张纸，我们便做起风筝来。做一个蝴蝶样的吧。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们精心做着，心中充满了憧憬和希望。风筝做好了，却什么也不像了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们依然快活，把它叫做“幸福鸟”，还把我们的名字写在上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16002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芦塘里拔几根细苇，再找来几张纸，我们便做起风筝来。做一个蝴蝶样的吧。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们精心做着，心中充满了憧憬和希望。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筝做好了，却什么也不像了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依然快活，把它叫做“幸福鸟”，还把我们的名字写在上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228600"/>
            <a:ext cx="2971800" cy="1371600"/>
          </a:xfrm>
          <a:prstGeom prst="wedgeEllipseCallout">
            <a:avLst>
              <a:gd name="adj1" fmla="val 33120"/>
              <a:gd name="adj2" fmla="val 5405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查词典知道了“憧憬”的意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00360" y="350028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憧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609300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憧憬：向往。如：我们心中充满着对美好未来的憧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11430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芦塘里拔几根细苇，再找来几张纸，我们便做起风筝来。做一个蝴蝶样的吧。我们精心做着，心中充满了憧憬和希望。风筝做好了，却什么也不像了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们依然快活，把它叫做“幸福鸟”，还把我们的名字写在上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04000" y="364500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依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595008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依然：依旧、仍然、仍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72200" y="5486400"/>
            <a:ext cx="2971800" cy="1371600"/>
          </a:xfrm>
          <a:prstGeom prst="wedgeEllipseCallout">
            <a:avLst>
              <a:gd name="adj1" fmla="val -28203"/>
              <a:gd name="adj2" fmla="val -94791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通过换近义词知道了“依然”的意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11430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芦塘里拔几根细苇，再找来几张纸，我们便做起风筝来。做一个蝴蝶样的吧。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们精心做着，心中充满了憧憬和希望。风筝做好了，却什么也不像了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们依然快活，把它叫做“幸福鸟”，还把我们的名字写在上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593640"/>
            <a:ext cx="8001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去放风筝。一个人用手托着，另一个人牵着线，站在远远的地方，说声“放”，那线一紧一松，风筝就凌空飞起，渐渐高过树梢了。牵线人飞快地跑起来。风筝越飞越高，在空中翩翩飞舞着，我们快活地喊叫着，在田野里拼命地奔跑。村里人看见了，说：“放得这么高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593640"/>
            <a:ext cx="8001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去放风筝。一个人用手托着，另一个人牵着线，站在远远的地方，说声“放”，那线一紧一松，风筝就凌空飞起，渐渐高过树梢了。牵线人飞快地跑起来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风筝越飞越高，在空中翩翩飞舞着，我们快活地喊叫着，在田野里拼命地奔跑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村里人看见了，说：“放得这么高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593640"/>
            <a:ext cx="8001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去放风筝。一个人用手托着，另一个人牵着线，站在远远的地方，说声“放”，那线一紧一松，风筝就凌空飞起，渐渐高过树梢了。牵线人飞快地跑起来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风筝越飞越高，在空中翩翩飞舞着，我们快活地喊叫着，在田野里拼命地奔跑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村里人看见了，说：“放得这么高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3429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翩翩飞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56000" y="335772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快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19280" y="393372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拼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填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风筝越飞越高，我们的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         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也飞起来了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440" y="112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907920"/>
            <a:ext cx="604836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村  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高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草长莺飞二月天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拂堤杨柳醉春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儿童散学归来早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忙趁东风放纸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风筝越飞越高，在空中翩翩飞舞着，我们快活地喊叫着，在田野里拼命地奔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593640"/>
            <a:ext cx="8001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去放风筝。一个人用手托着，另一个人牵着线，站在远远的地方，说声“放”，那线一紧一松，风筝就凌空飞起，渐渐高过树梢了。牵线人飞快地跑起来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风筝越飞越高，在空中翩翩飞舞着，我们快活地喊叫着，在田野里拼命地奔跑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村里人看见了，说：“放得这么高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95280" y="549360"/>
            <a:ext cx="8569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早晨玩到下午，我们还是歇不下来，牵着风筝在田野里奔跑。风筝越飞越高，似乎飞到了云彩上。忽然吹来一阵风，线嘣地断了。风筝在空中抖动了一下，便极快地飞走了。我们大惊失色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呼万唤，那风筝越来越小，倏地便没了踪影。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95280" y="3860640"/>
            <a:ext cx="9666360" cy="3381120"/>
            <a:chOff x="395280" y="3860640"/>
            <a:chExt cx="9666360" cy="3381120"/>
          </a:xfrm>
        </p:grpSpPr>
        <p:sp>
          <p:nvSpPr>
            <p:cNvPr id="109" name=""/>
            <p:cNvSpPr/>
            <p:nvPr/>
          </p:nvSpPr>
          <p:spPr>
            <a:xfrm>
              <a:off x="5003640" y="3860640"/>
              <a:ext cx="5058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我们大惊失色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5280" y="4941720"/>
              <a:ext cx="9001080" cy="23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千呼万唤，那风筝越来越小，倏地便没了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5280" y="6021360"/>
              <a:ext cx="14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踪影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867280" y="4076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大惊失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5157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千呼万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72360" y="51577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倏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68360" y="5950080"/>
            <a:ext cx="741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大惊失色：形容非常吃惊，脸色都变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80000" y="4581360"/>
            <a:ext cx="446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倏地：极快地，迅速地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54936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从早晨玩到下午，我们还是歇不下来，牵着风筝在田野里奔跑。风筝越飞越高，似乎飞到了云彩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238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                        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我们都哭了，在田野里四处寻找，找了半个 下午，还是没有踪影。我们垂头丧气地坐在田埂上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35280" y="1125360"/>
            <a:ext cx="16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都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68360" y="3645000"/>
            <a:ext cx="35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垂头丧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36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900000" y="2852640"/>
            <a:ext cx="7201080" cy="863640"/>
            <a:chOff x="900000" y="2852640"/>
            <a:chExt cx="7201080" cy="863640"/>
          </a:xfrm>
        </p:grpSpPr>
        <p:sp>
          <p:nvSpPr>
            <p:cNvPr id="123" name=""/>
            <p:cNvSpPr/>
            <p:nvPr/>
          </p:nvSpPr>
          <p:spPr>
            <a:xfrm>
              <a:off x="7093080" y="2852640"/>
              <a:ext cx="1008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00000" y="3716280"/>
              <a:ext cx="2303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900000" y="5373720"/>
            <a:ext cx="7129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垂头丧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：形容情绪低落、失望懊丧的样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-57240"/>
            <a:ext cx="9396360" cy="69152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50920" y="620640"/>
            <a:ext cx="8434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我们都哭了，在田野里四处寻找，找了半个 下午，还是没有踪影。我们垂头丧气地坐在田埂上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77691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们都哭了，在田野里四处寻找，找了半个 下午，还是没有踪影。我们垂头丧气地坐在田埂上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抬头，看见远远的水面上半沉半浮着一个巨大的木轮，不停地转着，将水扬起来，半圈儿水在闪着白光。那里是我们村的水磨坊。 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“那儿找过了吗？”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“没找过，说不定幸福鸟就落在那儿呢。”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我们向那房子跑去，继续寻找我们的“幸福鸟”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238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们向那房子跑去，继续寻找我们的“幸福鸟”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187280" y="333360"/>
            <a:ext cx="882036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课外延伸：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必做作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１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回家后把课文再美美地读一读。</a:t>
            </a:r>
            <a:br>
              <a:rPr sz="2400"/>
            </a:b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    ２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把喜欢的句子抄下来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做作业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１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有条件的亲自做一只你心中的“幸福鸟”。</a:t>
            </a:r>
            <a:br>
              <a:rPr sz="2400"/>
            </a:b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    ２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把你知道的描写心情的词语与大家交流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40" y="112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48000" y="907920"/>
            <a:ext cx="604836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村  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高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草长莺飞二月天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拂堤杨柳醉春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儿童散学归来早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忙趁东风放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纸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990720"/>
            <a:ext cx="73152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准字音，读通句子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想课文围绕风筝讲了哪些事，分别在哪些自然段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4360" y="3860640"/>
            <a:ext cx="7696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翩翩飞舞    歇不下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垂头丧气 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凌空飞起</a:t>
            </a:r>
            <a:r>
              <a:rPr b="0" lang="zh-CN" sz="6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85800" y="457200"/>
            <a:ext cx="8229600" cy="1465560"/>
            <a:chOff x="685800" y="457200"/>
            <a:chExt cx="8229600" cy="1465560"/>
          </a:xfrm>
        </p:grpSpPr>
        <p:sp>
          <p:nvSpPr>
            <p:cNvPr id="52" name=""/>
            <p:cNvSpPr/>
            <p:nvPr/>
          </p:nvSpPr>
          <p:spPr>
            <a:xfrm>
              <a:off x="762120" y="914400"/>
              <a:ext cx="8153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憧憬   凌空   田埂 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85800" y="45720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chōn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ɡ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jǐn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ɡ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lín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ɡ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ɡ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ěn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755640" y="2133720"/>
            <a:ext cx="7697520" cy="1373400"/>
            <a:chOff x="755640" y="2133720"/>
            <a:chExt cx="7697520" cy="1373400"/>
          </a:xfrm>
        </p:grpSpPr>
        <p:sp>
          <p:nvSpPr>
            <p:cNvPr id="55" name=""/>
            <p:cNvSpPr/>
            <p:nvPr/>
          </p:nvSpPr>
          <p:spPr>
            <a:xfrm>
              <a:off x="755640" y="2498760"/>
              <a:ext cx="7697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依然   磨坊    奔跑</a:t>
              </a:r>
              <a:r>
                <a:rPr b="1" lang="zh-CN" sz="5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57520" y="2133720"/>
              <a:ext cx="185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mò  fán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419640" y="2492280"/>
            <a:ext cx="237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磨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050920" y="314172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磨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56360" y="335772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潍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24000" y="162864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磨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95640" y="126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mò  fá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97080" y="26370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84720" y="1197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mò  fá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56360" y="155736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磨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27640" y="2924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éi    fā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2133720"/>
            <a:ext cx="107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59280" y="2205000"/>
            <a:ext cx="11509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63640" y="1557360"/>
            <a:ext cx="216000" cy="223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6000" y="1700280"/>
            <a:ext cx="216000" cy="223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497040" y="26028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我会写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95280" y="1484280"/>
          <a:ext cx="4032360" cy="4319640"/>
        </p:xfrm>
        <a:graphic>
          <a:graphicData uri="http://schemas.openxmlformats.org/drawingml/2006/table">
            <a:tbl>
              <a:tblPr/>
              <a:tblGrid>
                <a:gridCol w="2124360"/>
                <a:gridCol w="1908000"/>
              </a:tblGrid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259640" y="1228680"/>
            <a:ext cx="231444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0" spc="-1" strike="noStrike">
                <a:solidFill>
                  <a:srgbClr val="0000ff"/>
                </a:solidFill>
                <a:latin typeface="Arial"/>
                <a:ea typeface="楷体_GB2312"/>
              </a:rPr>
              <a:t>磨</a:t>
            </a:r>
            <a:endParaRPr b="0" lang="en-US" sz="2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859280" y="1484280"/>
          <a:ext cx="4032360" cy="4319640"/>
        </p:xfrm>
        <a:graphic>
          <a:graphicData uri="http://schemas.openxmlformats.org/drawingml/2006/table">
            <a:tbl>
              <a:tblPr/>
              <a:tblGrid>
                <a:gridCol w="2124000"/>
                <a:gridCol w="1908360"/>
              </a:tblGrid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5076720" y="1413000"/>
            <a:ext cx="361008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0" spc="-1" strike="noStrike">
                <a:solidFill>
                  <a:srgbClr val="0000ff"/>
                </a:solidFill>
                <a:latin typeface="Arial"/>
                <a:ea typeface="楷体_GB2312"/>
              </a:rPr>
              <a:t>坊</a:t>
            </a:r>
            <a:endParaRPr b="0" lang="en-US" sz="2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1676520"/>
            <a:ext cx="838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写了小时候，我和小伙伴一起（    ）、（     ）和（    ）的情景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4360" y="549360"/>
            <a:ext cx="2085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思考：</a:t>
            </a:r>
            <a:endParaRPr b="0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2421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做风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242100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放风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18600" y="2421000"/>
            <a:ext cx="113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找风筝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11280" y="3141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88000" y="3068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51640" y="306864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5——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1T14:14:51Z</dcterms:created>
  <dc:creator>ryp</dc:creator>
  <dc:description/>
  <dc:language>en-US</dc:language>
  <cp:lastModifiedBy>User</cp:lastModifiedBy>
  <dcterms:modified xsi:type="dcterms:W3CDTF">2013-10-09T02:15:15Z</dcterms:modified>
  <cp:revision>25</cp:revision>
  <dc:subject/>
  <dc:title>PowerPoint 演示文稿</dc:title>
</cp:coreProperties>
</file>